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677F-3537-4075-BD1A-F1A6473F3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BF25-B3A5-4909-9C5E-36203B868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60FA-3F9F-48A1-8A40-54F0C0A15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E17-8B8B-4251-B0AF-1DBAFBAAD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2573-5675-4E43-82B7-7D7E7EE6F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352-1727-40BA-A64E-D301C502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73F-CE92-445D-B891-DE9135DD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BAA-8A81-4556-9EFF-B4052B7E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ECC-EC35-4290-A18F-EF536A89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7F9-4E2A-400B-9F64-9595E9AB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5A3-350F-47E5-A1B4-CC512BE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74C8-3402-41C4-AE9D-EFB33BD3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0BD-AF58-4C83-9DAF-BF88212D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6E87-7C6B-4588-86E8-76EEB2DC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57E-8F74-4D51-833D-BDEADD0C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833-2E7F-4C6F-944A-915C5B99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10B-75A5-48DD-8DFF-4FF9196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08C0-423F-42EA-B39D-2768306377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BE35-FDCF-4D06-A287-8C919C478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paracin.rs/index.php/budzet-opstine-paracin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BDFF-07A2-4571-9B1B-3468A4721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ПШТИНА ПАРАЋ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96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ГРАЂАНСКИ ВОДИЧ КРОЗ ОДЛУКУ О БУЏЕТУ за 2022. год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9470-3835-4644-9E8F-474E0522D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grb"/>
          <p:cNvPicPr/>
          <p:nvPr/>
        </p:nvPicPr>
        <p:blipFill>
          <a:blip r:embed="rId1"/>
          <a:stretch/>
        </p:blipFill>
        <p:spPr>
          <a:xfrm>
            <a:off x="3924360" y="549360"/>
            <a:ext cx="12668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6215-9534-417F-8DDF-FCFA842C4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Како се пуни општинска ка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680" y="1001520"/>
            <a:ext cx="8286480" cy="557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Укупни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јавни приходи и примањ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пштине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за 2022. годину износ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длуком о буџету општине 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за 2022. годину планирана су средства из буџета општине у износу од</a:t>
            </a:r>
            <a:r>
              <a:rPr b="0" lang="en-GB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.690.000.00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, пренета средства из ранијих година у износу од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64.943.423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 и средства из осталих извора у износу од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101.108.000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динара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BF8-DF79-4D6B-B2C9-38521FB3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5" descr=""/>
          <p:cNvPicPr/>
          <p:nvPr/>
        </p:nvPicPr>
        <p:blipFill>
          <a:blip r:embed="rId1"/>
          <a:stretch/>
        </p:blipFill>
        <p:spPr>
          <a:xfrm>
            <a:off x="981000" y="4438800"/>
            <a:ext cx="7297920" cy="1766880"/>
          </a:xfrm>
          <a:prstGeom prst="rect">
            <a:avLst/>
          </a:prstGeom>
          <a:ln w="0">
            <a:noFill/>
          </a:ln>
        </p:spPr>
      </p:pic>
      <p:sp>
        <p:nvSpPr>
          <p:cNvPr id="97" name="Equals 6"/>
          <p:cNvSpPr/>
          <p:nvPr/>
        </p:nvSpPr>
        <p:spPr>
          <a:xfrm>
            <a:off x="2627280" y="1844640"/>
            <a:ext cx="1047960" cy="979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163368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3"/>
          <p:cNvSpPr/>
          <p:nvPr/>
        </p:nvSpPr>
        <p:spPr>
          <a:xfrm>
            <a:off x="3878280" y="1839960"/>
            <a:ext cx="497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856.051.423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E20-D1A9-4EEA-8E7A-686A4D41D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приходи и примања буџет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450720" y="1122480"/>
            <a:ext cx="8577360" cy="560700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5583-AC1A-4DC1-9B5F-0BC79DD48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CA4-067B-4090-866C-7839843CA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0680" y="247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20F5-8CC2-46B3-90D9-31909E01D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Diagram 4" descr=""/>
          <p:cNvPicPr/>
          <p:nvPr/>
        </p:nvPicPr>
        <p:blipFill>
          <a:blip r:embed="rId1"/>
          <a:stretch/>
        </p:blipFill>
        <p:spPr>
          <a:xfrm>
            <a:off x="1255680" y="1407960"/>
            <a:ext cx="667548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9D9-A169-400A-9533-572360ABA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Структура планираних прихода и примања за 202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9DE3-50D3-4062-AC0C-B3E790C1A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hart 6" descr=""/>
          <p:cNvPicPr/>
          <p:nvPr/>
        </p:nvPicPr>
        <p:blipFill>
          <a:blip r:embed="rId1"/>
          <a:stretch/>
        </p:blipFill>
        <p:spPr>
          <a:xfrm>
            <a:off x="1700280" y="1487520"/>
            <a:ext cx="56754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E5C9-2104-4332-B42E-045EDAA6A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Шта се променило у односу на 2021. годин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6360" y="1509480"/>
            <a:ext cx="822960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купни приходи и примања наше општине у 2022. години (извор финансирања 01 – средства из буџета) су се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ањили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односу на последњу измену Одлуке о буџету за 2021. годину за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000.000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0,59</a:t>
            </a:r>
            <a:r>
              <a:rPr b="1" lang="sr-R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7640" y="3929040"/>
            <a:ext cx="685188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Примања од продаје нефинансијске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имовин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на за 40.000.000 дин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sr-RS" sz="2000" spc="-1" strike="noStrike">
                <a:solidFill>
                  <a:srgbClr val="ff0000"/>
                </a:solidFill>
                <a:latin typeface="Calibri"/>
              </a:rPr>
              <a:t>Непорески приходи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31.1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000 дина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ансфер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 остали на истом нив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28880" y="3143160"/>
            <a:ext cx="69292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Calibri"/>
              </a:rPr>
              <a:t>Порески приход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су повећани за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61.100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дина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000080" y="2786040"/>
            <a:ext cx="486000" cy="1000080"/>
          </a:xfrm>
          <a:prstGeom prst="upArrow">
            <a:avLst>
              <a:gd name="adj1" fmla="val 50000"/>
              <a:gd name="adj2" fmla="val 77824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141E-A77B-4A5E-84C0-14241197A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wn Arrow 8"/>
          <p:cNvSpPr/>
          <p:nvPr/>
        </p:nvSpPr>
        <p:spPr>
          <a:xfrm>
            <a:off x="1000080" y="400068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C6C0-2D3A-4C18-AEEC-B67784AC3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шта се троше јавна средств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38708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Буџет мора бити у равнотежи, што значи да расходи морају одговарати приходима. Укупни планирани расходи и издаци у 202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 години из буџета износе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РАСХОД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Расходи представљају све трошкове општине за плате буџетских корисника, набавку роба и услуга, субвенције, дотације и трансфере, социјалну помоћ и остале трошкове које општина обезбеђује без директне и непосредне накнад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ИЗДАЦ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представљају трошкове изградње или инвестиционог одржавања већ постојећих објеката, набавку земљишта, машина и опрeме неопходне за рад буџетских корисни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РАСХОДИ И ИЗДАЦ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морају се исказивати на законом прописан начин, односно морају се исказивати: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програмим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који показују колико се троши за извршавање основних надлежности и стратешких циљева општине;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основној намен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која показује за коју врсту трошка се средства издвајају;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функциј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која показује функционалну намену за одређену област и по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корисницима буџет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што показује организацију рада општин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364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428F-67C0-4037-A472-3178AC8C0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: Rounded Corners 23"/>
          <p:cNvSpPr/>
          <p:nvPr/>
        </p:nvSpPr>
        <p:spPr>
          <a:xfrm>
            <a:off x="2843280" y="2133720"/>
            <a:ext cx="338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RS" sz="1800" spc="-1" strike="noStrike">
                <a:solidFill>
                  <a:srgbClr val="000000"/>
                </a:solidFill>
                <a:latin typeface="Calibri"/>
              </a:rPr>
              <a:t>856.051.423 дин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5C08-935A-41CE-AC92-353E9BDBC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2814-F280-4C84-B3F7-B149ABE32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609480" y="26352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Шта су расходи и издаци буџ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807-D2A3-4D4B-9E03-C1275B445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ntent Placeholder 5" descr=""/>
          <p:cNvPicPr/>
          <p:nvPr/>
        </p:nvPicPr>
        <p:blipFill>
          <a:blip r:embed="rId1"/>
          <a:stretch/>
        </p:blipFill>
        <p:spPr>
          <a:xfrm>
            <a:off x="781200" y="1047600"/>
            <a:ext cx="7850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6F99-93C2-48AB-9700-216F51C62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 за 2022. годин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469800" y="1195560"/>
            <a:ext cx="8240760" cy="510192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322-F332-4406-BBC4-2BDA59C7C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6F6-D6E0-4EF4-8550-CC8EE3866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F49C-0AF6-451F-A843-A3B48CF75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Структура планираних расхода и издатака буџета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900" spc="-1" strike="noStrike">
                <a:solidFill>
                  <a:srgbClr val="000000"/>
                </a:solidFill>
                <a:latin typeface="Calibri"/>
              </a:rPr>
              <a:t>за 2022. годин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hart 5" descr=""/>
          <p:cNvPicPr/>
          <p:nvPr/>
        </p:nvPicPr>
        <p:blipFill>
          <a:blip r:embed="rId1"/>
          <a:stretch/>
        </p:blipFill>
        <p:spPr>
          <a:xfrm>
            <a:off x="1487520" y="1700280"/>
            <a:ext cx="62056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4B19-795F-4769-8543-262019DDE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620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а се променило у односу на 202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годин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80960" y="1092240"/>
            <a:ext cx="82296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купни трошкови наше општине у 20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години (извор финансирања 01 – средства из буџета) су се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мањ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у односу на последњу измену Одлуке о буџету за 20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годину за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000.0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инара, односно за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0,59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85960" y="228564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c00000"/>
                </a:solidFill>
                <a:latin typeface="Arial"/>
                <a:ea typeface="Arial"/>
              </a:rPr>
              <a:t>Донације и трансфери</a:t>
            </a:r>
            <a:r>
              <a:rPr b="1" lang="en-US" sz="17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10.232.81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SimSun"/>
              </a:rPr>
              <a:t>Остали расходи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SimSun"/>
              </a:rPr>
              <a:t>су смањени за 176.698 динар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Капитални издаци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144.170.114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ff0000"/>
                </a:solidFill>
                <a:latin typeface="Arial"/>
                <a:ea typeface="Arial"/>
              </a:rPr>
              <a:t>Отплата главнице и камате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  <a:ea typeface="Arial"/>
              </a:rPr>
              <a:t>су смањени за 22.070.000 ди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80960" y="3786120"/>
            <a:ext cx="7527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Расходи за запослен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у повећани з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11.063.0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динар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0000ff"/>
                </a:solidFill>
                <a:latin typeface="Arial"/>
              </a:rPr>
              <a:t>Коришћење роба и услуга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су повећане за 119.448.641 динар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Субвенције</a:t>
            </a:r>
            <a:r>
              <a:rPr b="1" lang="en-US" sz="1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у повећане за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Arial"/>
              </a:rPr>
              <a:t>15.452.0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динар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SimSu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редства резерв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 повећана 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.965.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ин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ходи за социјалну зашти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у повећани за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5.7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000 динар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071720" y="2357280"/>
            <a:ext cx="485640" cy="928800"/>
          </a:xfrm>
          <a:prstGeom prst="downArrow">
            <a:avLst>
              <a:gd name="adj1" fmla="val 50000"/>
              <a:gd name="adj2" fmla="val 50336"/>
            </a:avLst>
          </a:prstGeom>
          <a:solidFill>
            <a:srgbClr val="ff0000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8088480" y="3786120"/>
            <a:ext cx="485640" cy="1643040"/>
          </a:xfrm>
          <a:prstGeom prst="upArrow">
            <a:avLst>
              <a:gd name="adj1" fmla="val 50000"/>
              <a:gd name="adj2" fmla="val 47240"/>
            </a:avLst>
          </a:prstGeom>
          <a:solidFill>
            <a:srgbClr val="3366ff"/>
          </a:soli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C62-87C0-415A-AADA-87C111DAC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E7D-BBEF-4E3C-9649-B63AA786E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E1FA-E7E1-4C48-AB57-C8BEF46F6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2" descr="Резултат слика за paracin"/>
          <p:cNvPicPr/>
          <p:nvPr/>
        </p:nvPicPr>
        <p:blipFill>
          <a:blip r:embed="rId1"/>
          <a:stretch/>
        </p:blipFill>
        <p:spPr>
          <a:xfrm>
            <a:off x="3143160" y="719280"/>
            <a:ext cx="2571840" cy="18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Резултат слика за paracin slike grada"/>
          <p:cNvPicPr/>
          <p:nvPr/>
        </p:nvPicPr>
        <p:blipFill>
          <a:blip r:embed="rId2"/>
          <a:stretch/>
        </p:blipFill>
        <p:spPr>
          <a:xfrm>
            <a:off x="357120" y="35002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езултат слика за paracin slike grada"/>
          <p:cNvPicPr/>
          <p:nvPr/>
        </p:nvPicPr>
        <p:blipFill>
          <a:blip r:embed="rId3"/>
          <a:stretch/>
        </p:blipFill>
        <p:spPr>
          <a:xfrm>
            <a:off x="357120" y="785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Резултат слика за paracin slike grada"/>
          <p:cNvPicPr/>
          <p:nvPr/>
        </p:nvPicPr>
        <p:blipFill>
          <a:blip r:embed="rId4"/>
          <a:stretch/>
        </p:blipFill>
        <p:spPr>
          <a:xfrm>
            <a:off x="6286680" y="3429000"/>
            <a:ext cx="2523960" cy="180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Резултат слика за paracin slike grada"/>
          <p:cNvPicPr/>
          <p:nvPr/>
        </p:nvPicPr>
        <p:blipFill>
          <a:blip r:embed="rId5"/>
          <a:stretch/>
        </p:blipFill>
        <p:spPr>
          <a:xfrm>
            <a:off x="5857920" y="714240"/>
            <a:ext cx="2978280" cy="1809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Резултат слика за grza slike"/>
          <p:cNvPicPr/>
          <p:nvPr/>
        </p:nvPicPr>
        <p:blipFill>
          <a:blip r:embed="rId6"/>
          <a:stretch/>
        </p:blipFill>
        <p:spPr>
          <a:xfrm>
            <a:off x="3143160" y="3500280"/>
            <a:ext cx="3062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08A7-4C2B-4973-8057-B9093B774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880" y="115560"/>
            <a:ext cx="77882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ходи буџета по програм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4E8-B517-4CEE-9334-FDCA016BC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907920"/>
          <a:ext cx="8208720" cy="5349960"/>
        </p:xfrm>
        <a:graphic>
          <a:graphicData uri="http://schemas.openxmlformats.org/drawingml/2006/table">
            <a:tbl>
              <a:tblPr/>
              <a:tblGrid>
                <a:gridCol w="4660920"/>
                <a:gridCol w="2520720"/>
                <a:gridCol w="10270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прогр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из Одлуке о буџету за 20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буџета по програм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. Становање, урбанизам и просторно планир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35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2. Комуналне делат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0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4. Развој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134.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5. Пољопривреда и рурални разв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32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6. Заштита животне сре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7. Организација саобраћаја и саобраћајна инфра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63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8. Предшколско васпитање и образов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10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9. Основно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0. Средње образовање и васпит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1. Социјална и дечиј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2. Здравствена зашт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3. Развој културе и информиса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84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4. Развој спорта и омлади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785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5. Опште услуге локалне самоуправ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3.494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6. Политички систем локалне самоупр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95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 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етска ефикас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0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и расходи по програм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.051.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B824-AF00-4752-9F6B-022D482DD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</a:rPr>
              <a:t>Структура расхода по буџетским програмим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525-217C-4B6C-98D7-F92D50C9F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Chart 6" descr=""/>
          <p:cNvPicPr/>
          <p:nvPr/>
        </p:nvPicPr>
        <p:blipFill>
          <a:blip r:embed="rId1"/>
          <a:stretch/>
        </p:blipFill>
        <p:spPr>
          <a:xfrm>
            <a:off x="914400" y="1200240"/>
            <a:ext cx="71438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EC7-162E-4876-9333-561E2E744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Расходи буџета расподељени по директним и индиректним буџетским корисниц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4360" y="1341360"/>
          <a:ext cx="7632720" cy="4830840"/>
        </p:xfrm>
        <a:graphic>
          <a:graphicData uri="http://schemas.openxmlformats.org/drawingml/2006/table">
            <a:tbl>
              <a:tblPr/>
              <a:tblGrid>
                <a:gridCol w="576000"/>
                <a:gridCol w="4429080"/>
                <a:gridCol w="1641600"/>
                <a:gridCol w="986040"/>
              </a:tblGrid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. б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буџетског корис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из Одлуке о буџету за 20</a:t>
                      </a: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годину  (износ у динари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 буџета по корисни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пштина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ник општи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 већ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3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нско правобранилаш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урбанизам, финанс. скупшт. и опште посло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.73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инвестиције и одрживи разво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5.36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а за ЛЕР, јавне службе и друштв. дела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3.10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не заједниц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чајни музеј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а ‘’Др Вићентије Ракић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3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турни центар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50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 омладине ‘’Параћин’’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70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ориште ‘’Параћин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8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2300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7 Јул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5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Ц ‘’Борац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7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школска установа ‘’Бамби’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.10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ичка организација општине Параћ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34.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К У П Н 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56.051.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C6E-99CA-47BE-AC3B-9A505D525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A85-1D55-4964-879C-28AF16050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981000"/>
          <a:ext cx="7488360" cy="5021280"/>
        </p:xfrm>
        <a:graphic>
          <a:graphicData uri="http://schemas.openxmlformats.org/drawingml/2006/table">
            <a:tbl>
              <a:tblPr/>
              <a:tblGrid>
                <a:gridCol w="4148280"/>
                <a:gridCol w="982440"/>
                <a:gridCol w="1179720"/>
                <a:gridCol w="1177920"/>
              </a:tblGrid>
              <a:tr h="503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ив прој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1224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ана сре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ос у динарима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1224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нструкција, надзор градских улица и израда пројектно техничке документ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1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и надзор сеоских у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г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улица у сеоским МЗ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1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05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авка возила и посуда за сакупљање и транспорт комуналног отп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4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канализационе и водоводне мреже на територији општине Параћин, надзор и изр. пројектно тех. доку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3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јекат изградње градских и приградских улиц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-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годи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24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јекат израде техничке документације за изградњу и реконстр. Објеката Опште болнице и Дома здравља 2018-2019. год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28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радња водоводне мреже од Мириловца према насељу Чукара  и надз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5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дња и надзор фекалне канализационе мреже испод реке Црнице у Глав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3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ор над извођењем радова  на санацији и адаптацији ОШ ‘’Радоје Домановић’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00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76E8-C81F-47CB-A161-003D268A4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ајважнији капитални пројек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0E4D-D876-4BD9-BD02-44A08548C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крају желимо да Вам се захвалимо што сте издвојили време за читање ове презентације буџе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сте заинтересовани да сагледате у целини Одлуку о буџету општине Параћин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 20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годину, исту можете преузети на следећем линку интернет странице општине Параћин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paracin.rs/index.php/budzet-opstine-parac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625E-0395-47F1-8026-21EC0DF9D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116000" y="4762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5b3d7"/>
                </a:solidFill>
                <a:latin typeface="Calibri"/>
              </a:rPr>
              <a:t>САДРЖ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971640" y="1268280"/>
            <a:ext cx="7537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 се финансира из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о настаје буџет општ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јам буџ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Ко учествује у буџетском проц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основу чега се доноси буџ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о се пуни општинска кас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приходи и примања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прихода и примања за 2022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21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шта се троше јавна сред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у расходи и издаци буџ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а планираних расхода и издатака за 2022. г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Шта се променило у односу на 2021. год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по програм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ходи буџета расподељени по директним и индиректним буџетским корисни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капитални прој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важнији пројекти од интереса за локалну заједн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3E19-1F30-42AA-969C-D20B02C23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EE3-D9D6-4D31-823C-BD6037892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BFF6-4D6C-4EE0-AC27-CE7271B46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380880" y="35244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раги суграђани и суграђан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на сврха документа који је пред вама јесте да на што једноставнији и разумљивији начин објасни у које сврхе се користе јавни ресурси да би се задовољиле потребе грађ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ађански буџет представља сажет и јасан приказ Одлуке о буџету општине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аћин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 2022. годину, која је по својој форми веома обимна и тешка за разумевање због специфичних појмова и класификација које је чи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ако је немогуће објаснити целокупан буџет у овако краткој форми, искрено се надамо да ћемо на овај начин успети да вас информишемо о начину прикупљања јавних средстава и остваривања прихода и примања буџета општине, као и о начину планирања, расподеле и трошења буџетских средст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оз овај транспарентан приступ настојимо да унапредимо разумевање и интересовање наших суграђана за локалне финансије, а у перспективи очекујемо и сарадњу локалне самоуправе и житеља у заједничком постављању циљева, дефинисању приоритета и планирању развоја наше општ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едседник општ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ладимир Милићевић, дипл. инж. по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21BA-C8E7-4EF2-8E76-26D0B66D0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 се финансира из буџ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ректни корисници буџетских средста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купштина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редседник општи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Општинско већ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Општинско правобранилаш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урбанизам, финансије, скупштинске и опште послов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инвестиције и одрживи разво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Управа за ЛЕР, јавне служб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руштвене делат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иректни корисници буџетских средста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Месне заједниц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Завичајни музеј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Библиотека ‘’Др. Вићентије Ракић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ултурни центар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Дом омладине ‘’Параћин’’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озориште ‘’Параћин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РЦ ‘’7 Јул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СРЦ ‘’Борац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редшколска установа ‘’Бамби’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Туристичка организација општине Параћ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939-4C6C-479F-8ED3-03F0FC118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стали корисници јавних средста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Образовне установе ( основне и средње школе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Здравствене установе ( Дом здравља и Апотек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Социјалне установе ( Центар за социјални р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Непрофитне организације (удружења грађана, невладине организације, ит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6E66-9DF5-411B-A07B-E7FFDAE73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101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ако настаје буџет општин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724-EDDE-46D6-976F-298453772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25440" y="1339920"/>
            <a:ext cx="84931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БУЏЕТ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општине је правни документ који утврђује план прихода и примања и расхода и издатака општине за буџетску, односно календарску годин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То значи да овај документ представља предвиђање колико ће се новца од грађана и привреде у току једне године прикупити и на који начин ће се тај новац троши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Из општинског буџета се током године плаћају све обавезе локалне самоуправе. Исто тако у буџет се сливају приходи из којих се подмирују те обавез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редседник општине и локална управа спроводе општинску политику, а главна полуга те политике и развоја је управо буџет општи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Приликом дефинисања овог, за општину Параћин најважнијег документа, руководе се законским оквиром и прописима, стратешким приоритетима развоја и другим елементим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Реалност је таква да постоје велике разлике између жеља и могућности, тако да креирање буџета подразумева утврђивање приоритета и прављење компроми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ABB1-0E3E-497C-991C-1A3073099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Ко учествује у буџетском процес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15F5-3F55-40E9-AD5B-81A388055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3" descr=""/>
          <p:cNvPicPr/>
          <p:nvPr/>
        </p:nvPicPr>
        <p:blipFill>
          <a:blip r:embed="rId1"/>
          <a:stretch/>
        </p:blipFill>
        <p:spPr>
          <a:xfrm>
            <a:off x="957240" y="1401840"/>
            <a:ext cx="6838920" cy="4133880"/>
          </a:xfrm>
          <a:prstGeom prst="rect">
            <a:avLst/>
          </a:prstGeom>
          <a:ln w="0">
            <a:noFill/>
          </a:ln>
        </p:spPr>
      </p:pic>
      <p:sp>
        <p:nvSpPr>
          <p:cNvPr id="85" name="Oval 4"/>
          <p:cNvSpPr/>
          <p:nvPr/>
        </p:nvSpPr>
        <p:spPr>
          <a:xfrm>
            <a:off x="6156360" y="3429000"/>
            <a:ext cx="1224000" cy="1152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Грађани и њихова удружењ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5867280" y="4869000"/>
            <a:ext cx="1081080" cy="9363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000" spc="-1" strike="noStrike">
                <a:solidFill>
                  <a:srgbClr val="ffffff"/>
                </a:solidFill>
                <a:latin typeface="Calibri"/>
              </a:rPr>
              <a:t>Јавна предузећ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247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345F-F589-4C21-87D2-693860289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490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а основу чега се доноси буџет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F4EC-874D-433E-868D-092E58872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Diagram 3" descr=""/>
          <p:cNvPicPr/>
          <p:nvPr/>
        </p:nvPicPr>
        <p:blipFill>
          <a:blip r:embed="rId1"/>
          <a:stretch/>
        </p:blipFill>
        <p:spPr>
          <a:xfrm>
            <a:off x="536400" y="1633680"/>
            <a:ext cx="77598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tojkovici</dc:creator>
  <dc:description/>
  <dc:language>en-US</dc:language>
  <cp:lastModifiedBy>sjankovi</cp:lastModifiedBy>
  <cp:lastPrinted>2018-01-29T14:26:33Z</cp:lastPrinted>
  <dcterms:modified xsi:type="dcterms:W3CDTF">2022-06-09T12:17:34Z</dcterms:modified>
  <cp:revision>541</cp:revision>
  <dc:subject/>
  <dc:title>ОПШТИНА КОВИН</dc:title>
</cp:coreProperties>
</file>